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BF2-871C-42F7-A6C2-84A7BDBA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2C5-8D56-4952-BB59-DFEB97F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608-2FE6-4A88-A2EC-A7E60D3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136-501B-40E6-8CDB-A9F57703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BBF-4D8A-470C-935D-904A2FCA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DA1-183C-4D59-8F8A-6C7D032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137-231C-4AE9-B37A-649D988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6D1-9DB4-4B17-9CC6-3C70EED3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DED-6E18-40A4-82DD-1B13DE3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E5E-E506-4E4A-A3DC-321D8B7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241-D1A4-45BB-8F7C-C51D22F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A8B-2F06-4D4B-A06B-727FF29C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F797-DB2A-434B-8C4E-453ED5D026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68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ы выбираем спорт!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ры презентац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ащиеся 9 класса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уруллин Рустам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вчук Алекс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зручко Галина Витальевн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У «СОШ №13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. Северодвинс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56760"/>
            <a:ext cx="8001000" cy="11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уществует множество способов быть физически актив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Picture 4" descr="8774"/>
          <p:cNvPicPr/>
          <p:nvPr/>
        </p:nvPicPr>
        <p:blipFill>
          <a:blip r:embed="rId2"/>
          <a:stretch/>
        </p:blipFill>
        <p:spPr>
          <a:xfrm>
            <a:off x="1500120" y="1928880"/>
            <a:ext cx="66121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Велоспор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" descr="velo"/>
          <p:cNvPicPr/>
          <p:nvPr/>
        </p:nvPicPr>
        <p:blipFill>
          <a:blip r:embed="rId2"/>
          <a:stretch/>
        </p:blipFill>
        <p:spPr>
          <a:xfrm>
            <a:off x="1285920" y="2000160"/>
            <a:ext cx="642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ла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4" descr="1214374533_animal_sport003"/>
          <p:cNvPicPr/>
          <p:nvPr/>
        </p:nvPicPr>
        <p:blipFill>
          <a:blip r:embed="rId2"/>
          <a:stretch/>
        </p:blipFill>
        <p:spPr>
          <a:xfrm>
            <a:off x="1403280" y="1700280"/>
            <a:ext cx="6334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Зимние виды спор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4" descr="liji2=1"/>
          <p:cNvPicPr/>
          <p:nvPr/>
        </p:nvPicPr>
        <p:blipFill>
          <a:blip r:embed="rId2"/>
          <a:stretch/>
        </p:blipFill>
        <p:spPr>
          <a:xfrm>
            <a:off x="1692360" y="1773360"/>
            <a:ext cx="5616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Аэроб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1_Презентация групповых программ"/>
          <p:cNvPicPr/>
          <p:nvPr/>
        </p:nvPicPr>
        <p:blipFill>
          <a:blip r:embed="rId2"/>
          <a:stretch/>
        </p:blipFill>
        <p:spPr>
          <a:xfrm>
            <a:off x="1763640" y="1773360"/>
            <a:ext cx="54007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рк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640" y="1643040"/>
            <a:ext cx="82533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аркур (от франц. parkour – полоса препятствий; сокращенно PK) – дисциплина, представляющая из себя совокупность навыков владения своим телом, которые в нужный момент могут найти применение в любой из ситуаций нашей жизни. Сила и верное её приложение – необходимое условие сохранения своей жизни и жизни человека, которому может потребоваться твоя помощь. Умение быстрее других оказаться там, где ты необходим является показателем твоих способностей и уровня. Не имея возможности добежать, залезть, вырваться, прорваться, то будь ты хоть гуру гуманитарных наук, ты так и сгниешь в той яме посреди джунглей, в которой оказался, не сумев добраться до пункта назна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аркур не учит использовать какие-либо средства, приспособления или оружие, а позволяет развить навык поведения в условиях здесь и сейчас. Деревья, стены, крыши – всё это есть часть нашей жизни и мы можем столкнуться с любым препятствием в любых условиях. Скорость реакции, оценки обстановки и своих возможностей – то, что тренированное сознание автоматически прорабатывает за секунды. Опыт преодоления своих страхов, неуверенности, полученный путем множества тренировок, научит тебя видеть путь везде. Отверстия в стенах, за которые ты успешно сможешь зацепиться, выступы, которые не пропустят твои ноги, пропасти, через которые тебе не составит труда перепрыгнуть – вот результат сканирования местности трейсером (трейсерами стали называть людей, занимающихся паркуром; от франц. traceur – прокладывающий путь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Безымянный9"/>
          <p:cNvPicPr/>
          <p:nvPr/>
        </p:nvPicPr>
        <p:blipFill>
          <a:blip r:embed="rId2"/>
          <a:stretch/>
        </p:blipFill>
        <p:spPr>
          <a:xfrm>
            <a:off x="0" y="0"/>
            <a:ext cx="3816360" cy="291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6356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55555555"/>
          <p:cNvPicPr/>
          <p:nvPr/>
        </p:nvPicPr>
        <p:blipFill>
          <a:blip r:embed="rId4"/>
          <a:stretch/>
        </p:blipFill>
        <p:spPr>
          <a:xfrm>
            <a:off x="2124000" y="314172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Ну и конечно бе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4" descr="zdorobraz_itog"/>
          <p:cNvPicPr/>
          <p:nvPr/>
        </p:nvPicPr>
        <p:blipFill>
          <a:blip r:embed="rId2"/>
          <a:stretch/>
        </p:blipFill>
        <p:spPr>
          <a:xfrm>
            <a:off x="1835280" y="2349360"/>
            <a:ext cx="59054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 кроме физических нагрузок, нужно еще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отказаться и от вредных привы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204_large"/>
          <p:cNvPicPr/>
          <p:nvPr/>
        </p:nvPicPr>
        <p:blipFill>
          <a:blip r:embed="rId2"/>
          <a:stretch/>
        </p:blipFill>
        <p:spPr>
          <a:xfrm>
            <a:off x="2268360" y="1773360"/>
            <a:ext cx="4753080" cy="3024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857160" y="5084640"/>
            <a:ext cx="764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Задай себе вопрос: Каким ты хочешь быт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Таки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4012_346_365_ArtFile_ru"/>
          <p:cNvPicPr/>
          <p:nvPr/>
        </p:nvPicPr>
        <p:blipFill>
          <a:blip r:embed="rId2"/>
          <a:stretch/>
        </p:blipFill>
        <p:spPr>
          <a:xfrm>
            <a:off x="539640" y="177336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10194294_1_F"/>
          <p:cNvPicPr/>
          <p:nvPr/>
        </p:nvPicPr>
        <p:blipFill>
          <a:blip r:embed="rId3"/>
          <a:stretch/>
        </p:blipFill>
        <p:spPr>
          <a:xfrm>
            <a:off x="3132000" y="1700280"/>
            <a:ext cx="318636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alkogolik1"/>
          <p:cNvPicPr/>
          <p:nvPr/>
        </p:nvPicPr>
        <p:blipFill>
          <a:blip r:embed="rId4"/>
          <a:stretch/>
        </p:blipFill>
        <p:spPr>
          <a:xfrm>
            <a:off x="6156360" y="1773360"/>
            <a:ext cx="2703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Йоги говорят, что пока человек гибок - он молод. Действительно гибкость позвоночника, подвижность, амплитуда движений в суставах во многом определяют состояние здоровья человека. С возрастом происходит морфологическая перестройка суставов: уплощаются и деформируются из-за отложения солей суставные поверхности костей, истончаются и окостеневают хрящевые прослойки, теряют эластичность, укорачиваются и огрубляются связки. Все это приводит к снижению амплитуды движений, потере гибкости, появлению болезненных ощущений в плечевых, коленных, тазобедренных суставах и позвоночнике. Для того чтобы остановить этот процесс, существует только один способ - физкультура, специально направленная на проработку суставов, гимнастика растягивания. Если вы сейчас молоды и вам не знакомы боли в суставах, остеохондроз и радикулит - не ждите когда эти симптомы придут к вам, начинайте уже сейчас вести активный образ жизни, занимайтесь аэробикой, танцами, гимнастикой, плаванием, бегом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Или таки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gi1"/>
          <p:cNvPicPr/>
          <p:nvPr/>
        </p:nvPicPr>
        <p:blipFill>
          <a:blip r:embed="rId2"/>
          <a:stretch/>
        </p:blipFill>
        <p:spPr>
          <a:xfrm>
            <a:off x="755640" y="1844640"/>
            <a:ext cx="317016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81"/>
          <p:cNvPicPr/>
          <p:nvPr/>
        </p:nvPicPr>
        <p:blipFill>
          <a:blip r:embed="rId3"/>
          <a:stretch/>
        </p:blipFill>
        <p:spPr>
          <a:xfrm>
            <a:off x="4211640" y="1773360"/>
            <a:ext cx="43196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85520" y="2285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Будущее за тобой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446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Сердечно-сосудистая система призвана обеспечивать циркуляцию крови и снабжение тканей кислородом и питательными веществами. Регулярные занятия спортом оказывают стимулирующее действие на работу сердца. При этом мышцы сердца немного утолщаются и становятся более выносливыми. У тренированных людей ритм сердечных сокращение (пульс) в состоянии покоя замедляется. Связано это с тем, что тренированное сердце за одно сокращение перекачивает большее количество крови, чем не тренированное.</a:t>
            </a:r>
            <a:br>
              <a:rPr sz="1300"/>
            </a:b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Стенки кровеносных сосудов спортсменов становятся более эластичными и упругими. Особенно выражено благоприятное влияния спорта на вены ног. При сокращении мышц, стенки вен сжимаются, тем самым кровь из вен быстрее перекачивается к сердцу. Умеренные занятия физкультурой помогают предотвратить варикозное расширение вен и тромбоз вен нижних конечностей. Количество эритроцитов в крови спортсменов увеличивается, благодаря этому улучшается снабжение тканей кислородом.</a:t>
            </a:r>
            <a:br>
              <a:rPr sz="1300"/>
            </a:b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рдечно-сосудистая сист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3305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010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ыхательная систе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егкие тренированных людей значительно отличаются от легких людей, не занимающихся спортом. Во-первых, в легких спортсмена бронхи расширяются и открываются дополнительные альвеолы (воздушные мешочки), благодаря чему увеличивается жизненная емкость легких. Во-вторых, легкие тренированного человека гораздо лучше кровоснабжены. Благодаря этому увеличивается насыщение крови кислородом, а, следовательно, и снабжение кислородом всех органов и тканей организма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лагодаря улучшению вентиляции легких люди, занимающиеся спортом, гораздо реже болеют бронхитом и воспалением легких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160720" cy="210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6012000" y="3933720"/>
            <a:ext cx="2447640" cy="1886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132000" y="4005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уреные легк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132000" y="465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доровые легк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 вещест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5616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меренные физические нагрузки оказывают благоприятное влияние на процессы обмена веществ в организме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Обмен белко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у спортсменов характеризуется положительным азотным балансом, то есть количество потребляемого азота (главным образом азот содержится в белках) превосходит количество выделяемого азота. Отрицательный азотный баланс наблюдается во время болезней, похудания, нарушения обмена веществ. У людей, занимающихся спортом, белки используются главным образом для развития мышц и костей. В то время как у нетренированных людей — для получения энергии (при этом выделяется ряд вредных для организма веществ).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300720" y="2060640"/>
            <a:ext cx="246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471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Обмен жиров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спортсменов ускоряется. Гораздо больше жиров используется во время физической активности, следовательно, меньше жиров запасается под кожей. Регулярные занятия спортом снижают количество, так называе-мых, атерогенных липидов, которые приводят к развитию тяжелой болезни кровеносных сосудов —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атеросклероз. </a:t>
            </a:r>
            <a:br>
              <a:rPr sz="2100"/>
            </a:br>
            <a:br>
              <a:rPr sz="2100"/>
            </a:b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181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66640" y="1752120"/>
            <a:ext cx="49420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Обмен углевод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 время занятий спортом ускоряется. При этом углеводы (глюкоза, фруктоза) используются для получения энергии, а не запасаются в виде жиров. Умеренная мышечная активность восстанавливает чувствитель-ность тканей к глюкозе и предупреждает развитие диабета 2 типа. Для выполнения быстрых силовых движений (поднимание тяжес-тей) тратятся в основном углеводы, а вот во время продолжительных несильных нагрузок (например, ходьба или медленный бег), — жиры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578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 результате проведенного исследования мы выяснили,  что после регулярных ежедневных пробежек в течении 10 дней по 30 минут можно увеличить задержку дыхания в среднем на 10 секунд (в эксперименте участвовало 12 юношей и 8 девушек 9 класса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5791320" cy="27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жет выделить немного времени на организацию своего здоро-вого образа жизни, но не все это делают.Рано или поздно это скажется на здоровь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4" descr="Безымянный1111"/>
          <p:cNvPicPr/>
          <p:nvPr/>
        </p:nvPicPr>
        <p:blipFill>
          <a:blip r:embed="rId2"/>
          <a:stretch/>
        </p:blipFill>
        <p:spPr>
          <a:xfrm>
            <a:off x="6500880" y="2214720"/>
            <a:ext cx="2163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3:34:48Z</dcterms:created>
  <dc:creator>Devil</dc:creator>
  <dc:description/>
  <dc:language>en-US</dc:language>
  <cp:lastModifiedBy>alex</cp:lastModifiedBy>
  <dcterms:modified xsi:type="dcterms:W3CDTF">2010-01-27T14:45:05Z</dcterms:modified>
  <cp:revision>18</cp:revision>
  <dc:subject/>
  <dc:title>Слайд 1</dc:title>
</cp:coreProperties>
</file>